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E9A3-879D-49A8-A28C-C5E6F31AB53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2C5F-B58F-472A-B513-69D8E6FE90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CDE7-DD82-492A-8A5B-42D09ED806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EC6D-1998-4107-A90E-6800E5FE2E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514C-FF0C-4887-BE09-290E910239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CA6-9997-4DEE-82D8-E11A5B16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C15-F58C-41CA-BE45-40B90E57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DE2-455B-40A0-9BCE-B2C8F442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E56-1BDE-4B78-AFE3-DA7A9333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2B9-0649-4131-84F5-A1C8148F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4C4-8154-412F-8CC2-E5128B8F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579-6381-41B5-A5FA-51268A2E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13E-A8BB-48F9-95A6-E2228FC0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7E6-9488-44D0-83F9-EEDB3851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E91-4EFF-4EFC-8289-44E3882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6CD-A103-4CD3-8C01-C2442D4B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1B0-6CBF-40E4-B124-C6CDDBA2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2974-9C4B-4805-946E-89EABA98D4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el soni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071720" y="3071880"/>
            <a:ext cx="712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al son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Frecuenci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la Músic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071720" y="3071880"/>
            <a:ext cx="7127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los aspectos de la mús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i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“Inten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02:14:20Z</dcterms:modified>
  <cp:revision>47</cp:revision>
  <dc:subject/>
  <dc:title>Taller de Ciencias en la Música </dc:title>
</cp:coreProperties>
</file>